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D2A-E661-4BD3-A768-2DB4E482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0DE-F480-42A9-B9BF-BA32508E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3BC-555D-47E2-80EA-D8C603E7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CBE-5B6A-4EE3-9DD3-A297698C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506-2DEC-494E-A4D5-6846837E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A74-D277-4935-BB76-93829777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C6A-738A-4475-9ED9-CE26A26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0C8-78AA-40A8-AF41-862357EF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7AB-FB6F-462B-8CE8-1B673A7D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7F6-6DD2-49FF-82F2-3C9E908D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8EE-F627-464D-97E6-2DDB1E3C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474-45F7-45D6-B6C1-267E63A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E6F7-2515-42FE-8288-3E8CB90A0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221000"/>
            <a:ext cx="1150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72428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pe 4HK 50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h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900000" y="2205000"/>
            <a:ext cx="0" cy="2016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205000"/>
            <a:ext cx="935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7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2205000"/>
            <a:ext cx="0" cy="1008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3213000"/>
            <a:ext cx="14414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3213000"/>
            <a:ext cx="865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284720" y="2708280"/>
            <a:ext cx="1008000" cy="504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28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233800">
            <a:off x="406728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4292640"/>
            <a:ext cx="22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b 90° angle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b 45° angle 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 clapet anti re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2708280"/>
            <a:ext cx="122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516720" y="2421000"/>
            <a:ext cx="287280" cy="287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2421000"/>
            <a:ext cx="1584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31640" y="299736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76720" y="299736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3573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13716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roché à la même altimé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198900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20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4:27:56Z</dcterms:created>
  <dc:creator>stéphane lucas</dc:creator>
  <dc:description/>
  <dc:language>en-US</dc:language>
  <cp:lastModifiedBy>stephlu</cp:lastModifiedBy>
  <dcterms:modified xsi:type="dcterms:W3CDTF">2008-03-03T11:44:02Z</dcterms:modified>
  <cp:revision>4</cp:revision>
  <dc:subject/>
  <dc:title>Slide 1</dc:title>
</cp:coreProperties>
</file>